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956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076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956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956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076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0768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956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956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95640"/>
            <a:ext cx="264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40158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07680"/>
            <a:ext cx="40158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07680"/>
            <a:ext cx="40158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956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40158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076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9564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07680"/>
            <a:ext cx="40158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56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Self-Consistent Angular Momentum Transport in Pulsating Massive Sta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93360" y="3429000"/>
            <a:ext cx="37242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ich Towns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y of Wisconsin-Madi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"/>
          <p:cNvSpPr/>
          <p:nvPr/>
        </p:nvSpPr>
        <p:spPr>
          <a:xfrm>
            <a:off x="6031080" y="635652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nta Fe — June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15000" y="2251080"/>
            <a:ext cx="3751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ar layer formation by prograde ℓ=|m|=2 modes in a 5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su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B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00080" y="13748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ear layer is associated with the driving and damping z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61920" y="1335240"/>
            <a:ext cx="7143840" cy="53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61920" y="1335240"/>
            <a:ext cx="7143840" cy="535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61920" y="1335240"/>
            <a:ext cx="7143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xpected result: the shear layer naturally limits mode amplitud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0080" y="1335240"/>
            <a:ext cx="7143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you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houldn’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believe these result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litud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self-limi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nly appears to work for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gra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riol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entrifug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ces ar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eglec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however, Doppler effect is includ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a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ubs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full unstable mod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pectr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consid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 feedba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ridional circul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i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you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hou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lieve these result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eory of wave transport i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ell establis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know that the g modes are excited, and we ca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irectly measu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ir amplitu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mpirical calcul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L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 to see how a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hear lay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ould not develop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40384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 new pulsation code w/ better treatment of rotation effe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riolis and centrifugal for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erential ro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-D ro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rove mode tracking algorith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ll mode spectru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ever tricks to avoid missing anything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grate with stellar evolution c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eedback on meridional circu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eraction with mixing proces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mple parameterization of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507680"/>
            <a:ext cx="40384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94280" y="1508040"/>
            <a:ext cx="2496960" cy="194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29040" y="3621240"/>
            <a:ext cx="2075040" cy="19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45280" y="3621240"/>
            <a:ext cx="18604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5600" y="2122200"/>
            <a:ext cx="74120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xcited by processes other than rotation can carry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gular moment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promote differential rotation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85960" y="4422240"/>
            <a:ext cx="73720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ndo (198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5640" y="3924000"/>
            <a:ext cx="74120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vity w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ochastically exci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t the base of the convection zone can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tract angular moment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the radiative interio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885960" y="2122560"/>
            <a:ext cx="74120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5960" y="4422600"/>
            <a:ext cx="73720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85600" y="6227640"/>
            <a:ext cx="7334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alon, Kumar &amp; Zahn (2002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440" y="279360"/>
            <a:ext cx="80071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5600" y="2122200"/>
            <a:ext cx="74120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ther internal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vity w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nerated by 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vective co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also play a role in the evolution of massive star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5960" y="4422240"/>
            <a:ext cx="73720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antillon, Talon &amp; Charbonnel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5600" y="2122200"/>
            <a:ext cx="74120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ve excited by a thermal process, say the </a:t>
            </a:r>
            <a:r>
              <a:rPr b="0" lang="el-GR" sz="3200" spc="-1" strike="noStrike">
                <a:solidFill>
                  <a:srgbClr val="ffff00"/>
                </a:solidFill>
                <a:latin typeface="Tahoma"/>
              </a:rPr>
              <a:t>κ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mechani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an transfer its energy to the rotational energy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5960" y="4422240"/>
            <a:ext cx="73720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ndo (198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0s: Massive stars pulsate due to the iron-bump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50804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0804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71600" y="150804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77320" y="292896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β</a:t>
            </a: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Arial"/>
              </a:rPr>
              <a:t> Ceph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Arial"/>
              </a:rPr>
              <a:t>(p mo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10400" y="173988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Superg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(g mo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57520" y="327492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Slowly pulsating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(g mo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9760" y="649116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fter Pamyatnykh (19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on of angular moment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58760" y="1701720"/>
            <a:ext cx="8867880" cy="2035080"/>
            <a:chOff x="158760" y="1701720"/>
            <a:chExt cx="8867880" cy="2035080"/>
          </a:xfrm>
        </p:grpSpPr>
        <p:sp>
          <p:nvSpPr>
            <p:cNvPr id="64" name=""/>
            <p:cNvSpPr/>
            <p:nvPr/>
          </p:nvSpPr>
          <p:spPr>
            <a:xfrm>
              <a:off x="7337520" y="2819520"/>
              <a:ext cx="168912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72240" y="1941480"/>
              <a:ext cx="12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Tahoma"/>
                </a:rPr>
                <a:t>W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5" idx="2"/>
              <a:endCxn id="64" idx="0"/>
            </p:cNvCxnSpPr>
            <p:nvPr/>
          </p:nvCxnSpPr>
          <p:spPr>
            <a:xfrm flipH="1">
              <a:off x="8181360" y="2278080"/>
              <a:ext cx="5400" cy="542160"/>
            </a:xfrm>
            <a:prstGeom prst="straightConnector1">
              <a:avLst/>
            </a:prstGeom>
            <a:ln w="25560">
              <a:solidFill>
                <a:srgbClr val="00ffff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88800" y="2814480"/>
              <a:ext cx="160020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8760" y="1701720"/>
              <a:ext cx="207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Rate of change of angular moment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8" idx="2"/>
              <a:endCxn id="67" idx="0"/>
            </p:cNvCxnSpPr>
            <p:nvPr/>
          </p:nvCxnSpPr>
          <p:spPr>
            <a:xfrm flipH="1">
              <a:off x="1188720" y="2282400"/>
              <a:ext cx="8640" cy="53244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>
              <a:off x="2271600" y="2822400"/>
              <a:ext cx="214956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47920" y="1932120"/>
              <a:ext cx="20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Diffu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2" name=""/>
            <p:cNvCxnSpPr>
              <a:stCxn id="71" idx="2"/>
              <a:endCxn id="70" idx="0"/>
            </p:cNvCxnSpPr>
            <p:nvPr/>
          </p:nvCxnSpPr>
          <p:spPr>
            <a:xfrm flipH="1">
              <a:off x="3345840" y="2268000"/>
              <a:ext cx="3960" cy="55476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4724280" y="2817720"/>
              <a:ext cx="230976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1941480"/>
              <a:ext cx="20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Adve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74" idx="2"/>
              <a:endCxn id="73" idx="0"/>
            </p:cNvCxnSpPr>
            <p:nvPr/>
          </p:nvCxnSpPr>
          <p:spPr>
            <a:xfrm>
              <a:off x="5879880" y="2277720"/>
              <a:ext cx="1080" cy="54036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>
              <a:off x="8597880" y="2968560"/>
              <a:ext cx="345960" cy="53820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406440" y="2768760"/>
            <a:ext cx="8570880" cy="96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440" y="2768760"/>
                      <a:ext cx="8570880" cy="96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" name=""/>
          <p:cNvGrpSpPr/>
          <p:nvPr/>
        </p:nvGrpSpPr>
        <p:grpSpPr>
          <a:xfrm>
            <a:off x="573120" y="4389480"/>
            <a:ext cx="7172280" cy="2238480"/>
            <a:chOff x="573120" y="4389480"/>
            <a:chExt cx="7172280" cy="2238480"/>
          </a:xfrm>
        </p:grpSpPr>
        <p:sp>
          <p:nvSpPr>
            <p:cNvPr id="80" name=""/>
            <p:cNvSpPr/>
            <p:nvPr/>
          </p:nvSpPr>
          <p:spPr>
            <a:xfrm>
              <a:off x="1346040" y="4389480"/>
              <a:ext cx="45900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59200" y="4395960"/>
              <a:ext cx="214920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78400" y="4395960"/>
              <a:ext cx="2156040" cy="914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1346040" y="4510080"/>
            <a:ext cx="6399360" cy="74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46040" y="4510080"/>
                      <a:ext cx="639936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3035160" y="5810400"/>
              <a:ext cx="200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Tahoma"/>
                </a:rPr>
                <a:t>Reynolds str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ff"/>
                  </a:solidFill>
                  <a:latin typeface="Tahoma"/>
                </a:rPr>
                <a:t>(Ando 1982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6" name=""/>
            <p:cNvCxnSpPr>
              <a:stCxn id="85" idx="0"/>
              <a:endCxn id="81" idx="2"/>
            </p:cNvCxnSpPr>
            <p:nvPr/>
          </p:nvCxnSpPr>
          <p:spPr>
            <a:xfrm flipH="1" flipV="1">
              <a:off x="4033080" y="5309640"/>
              <a:ext cx="3960" cy="500760"/>
            </a:xfrm>
            <a:prstGeom prst="straightConnector1">
              <a:avLst/>
            </a:prstGeom>
            <a:ln w="25560">
              <a:solidFill>
                <a:srgbClr val="00ffff"/>
              </a:solidFill>
              <a:miter/>
            </a:ln>
          </p:spPr>
        </p:cxnSp>
        <p:sp>
          <p:nvSpPr>
            <p:cNvPr id="87" name=""/>
            <p:cNvSpPr/>
            <p:nvPr/>
          </p:nvSpPr>
          <p:spPr>
            <a:xfrm>
              <a:off x="5494320" y="5819760"/>
              <a:ext cx="192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Tahoma"/>
                </a:rPr>
                <a:t>Eddy mass flu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ff"/>
                  </a:solidFill>
                  <a:latin typeface="Tahoma"/>
                </a:rPr>
                <a:t>(Lee &amp; Saio 199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7" idx="0"/>
              <a:endCxn id="82" idx="2"/>
            </p:cNvCxnSpPr>
            <p:nvPr/>
          </p:nvCxnSpPr>
          <p:spPr>
            <a:xfrm flipV="1">
              <a:off x="6454800" y="5309640"/>
              <a:ext cx="2160" cy="510120"/>
            </a:xfrm>
            <a:prstGeom prst="straightConnector1">
              <a:avLst/>
            </a:prstGeom>
            <a:ln w="25560">
              <a:solidFill>
                <a:srgbClr val="00ffff"/>
              </a:solidFill>
              <a:miter/>
            </a:ln>
          </p:spPr>
        </p:cxnSp>
        <p:sp>
          <p:nvSpPr>
            <p:cNvPr id="89" name=""/>
            <p:cNvSpPr/>
            <p:nvPr/>
          </p:nvSpPr>
          <p:spPr>
            <a:xfrm>
              <a:off x="573120" y="5803920"/>
              <a:ext cx="200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Tahoma"/>
                </a:rPr>
                <a:t>Angular momentum luminosi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9" idx="0"/>
              <a:endCxn id="80" idx="2"/>
            </p:cNvCxnSpPr>
            <p:nvPr/>
          </p:nvCxnSpPr>
          <p:spPr>
            <a:xfrm flipV="1">
              <a:off x="1574280" y="5303160"/>
              <a:ext cx="2520" cy="500760"/>
            </a:xfrm>
            <a:prstGeom prst="straightConnector1">
              <a:avLst/>
            </a:prstGeom>
            <a:ln w="25560">
              <a:solidFill>
                <a:srgbClr val="00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MDALL: A “self-consistent” pulsation + angular momentum transport co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92280" y="1508040"/>
            <a:ext cx="1541160" cy="11145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llar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itial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  <a:ea typeface="Arial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880" y="3313080"/>
            <a:ext cx="2001960" cy="11145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olve L/NR/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ul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q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70680" y="5156280"/>
            <a:ext cx="1541520" cy="111420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lumino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70680" y="1508040"/>
            <a:ext cx="1541520" cy="11145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vol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amplitu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3" idx="2"/>
            <a:endCxn id="94" idx="0"/>
          </p:cNvCxnSpPr>
          <p:nvPr/>
        </p:nvCxnSpPr>
        <p:spPr>
          <a:xfrm flipV="1" rot="10800000">
            <a:off x="1463040" y="2622240"/>
            <a:ext cx="1080" cy="691200"/>
          </a:xfrm>
          <a:prstGeom prst="bent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9" idx="1"/>
            <a:endCxn id="94" idx="2"/>
          </p:cNvCxnSpPr>
          <p:nvPr/>
        </p:nvCxnSpPr>
        <p:spPr>
          <a:xfrm rot="10800000">
            <a:off x="1463040" y="4426920"/>
            <a:ext cx="1000800" cy="1286640"/>
          </a:xfrm>
          <a:prstGeom prst="bent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6" idx="3"/>
            <a:endCxn id="95" idx="3"/>
          </p:cNvCxnSpPr>
          <p:nvPr/>
        </p:nvCxnSpPr>
        <p:spPr>
          <a:xfrm>
            <a:off x="7612200" y="2065320"/>
            <a:ext cx="2160" cy="3648960"/>
          </a:xfrm>
          <a:prstGeom prst="bentConnector3">
            <a:avLst>
              <a:gd name="adj1" fmla="val 45000000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463840" y="3870360"/>
            <a:ext cx="4378680" cy="1286640"/>
          </a:xfrm>
          <a:prstGeom prst="bent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4" idx="3"/>
            <a:endCxn id="96" idx="2"/>
          </p:cNvCxnSpPr>
          <p:nvPr/>
        </p:nvCxnSpPr>
        <p:spPr>
          <a:xfrm flipV="1">
            <a:off x="2463840" y="2622240"/>
            <a:ext cx="4378680" cy="1248480"/>
          </a:xfrm>
          <a:prstGeom prst="bent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5992920" y="2928960"/>
            <a:ext cx="1690560" cy="55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owth r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3080" y="4197240"/>
            <a:ext cx="1690560" cy="55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igenfun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400" y="4876920"/>
            <a:ext cx="1690920" cy="556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ew </a:t>
            </a:r>
            <a:r>
              <a:rPr b="0" lang="el-GR" sz="14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3440" y="3591000"/>
            <a:ext cx="1690560" cy="55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mplitu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3840" y="5156280"/>
            <a:ext cx="1541520" cy="111420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ang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momen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5" idx="1"/>
            <a:endCxn id="99" idx="3"/>
          </p:cNvCxnSpPr>
          <p:nvPr/>
        </p:nvCxnSpPr>
        <p:spPr>
          <a:xfrm rot="10800000">
            <a:off x="4004640" y="5712840"/>
            <a:ext cx="2066040" cy="1080"/>
          </a:xfrm>
          <a:prstGeom prst="bent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226040" y="5433840"/>
            <a:ext cx="1690560" cy="55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5600" y="2311560"/>
            <a:ext cx="7412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ve made up my mind that laws are like sausages — the less you know about how they are made, the more respect you have for th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85960" y="4653000"/>
            <a:ext cx="7372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Otto von Bismar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1:25:45Z</dcterms:created>
  <dc:creator>Richard Townsend</dc:creator>
  <dc:description/>
  <dc:language>en-US</dc:language>
  <cp:lastModifiedBy>Rich Townsend</cp:lastModifiedBy>
  <dcterms:modified xsi:type="dcterms:W3CDTF">2009-06-03T15:05:57Z</dcterms:modified>
  <cp:revision>99</cp:revision>
  <dc:subject/>
  <dc:title>Slide 1</dc:title>
</cp:coreProperties>
</file>